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A4CD-9FF3-49F6-8298-D06A1AEA7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3562-DEA4-44CB-B5F4-594817786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5C6E-DF89-4A70-8854-4FEED06E7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en.wikipedia.org/wiki/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 C links to liv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93E6-D0C9-4B81-B382-31FA87541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E36F-14E6-4ACB-BAE3-A6E0315EC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rsharma.ca/obesity-did-weight-bias-play-a-role-in-access-to-h1n1-vaccina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940B-142B-4ACB-98D6-1959FD26C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bs.org/wgbh/aso/databank/entries/dm79s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n interesting article as well…about WHO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efforts to eliminate smallpo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91AF-648C-4408-B62E-8F4EC8DA6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ww.durham.ca/health.asp?nr=/departments/health/cdcp/routineSchedul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4C25-316D-4E18-96A6-A89DE401D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EC6F-4239-45E1-8508-4F515E9B5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image from: http://www.allrmc.com/blog/reverse-mortgage-pros-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75B3-A8BC-4254-81B6-C018F5FF6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88C3-C775-4D00-9AC2-6FCA0E45F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gugenetics.pbworks.com/w/page/38371765/Gene%20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DD72-8C7F-4DC4-91E2-4FA8B793F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4D21-2906-492D-B548-09307EC9E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42C9-B66B-430B-8BE5-BAC659825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exams4u.com/2013/03/viroids.html#.VBLk6Bz_A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fectious pieces of RNA without capsid; responsible for some plant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AC87-7BB9-4425-97AD-E899B37A7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awelmazur.org/blog/?tag=pr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normally-shaped infectious proteins; cause rare diseases in mammals; consumption of infected animals causes prions to enter blood &amp; travel to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35F5-7041-4C63-824B-EEA06A63D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26CC-DD2C-4DEF-B7B7-B26A21479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vc.dfci.harvard.edu/hpv/HTML/classifica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D2CB-47B2-4A22-B0B7-3F7797F82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lv.ch/Virologytutorials/Classific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9CFD-41EA-4F9B-B402-6ACB50954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5D08-B0A2-40DA-8F05-3C2892ABC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T2 bacteriophage from: http://www.visualphotos.com/image/1x3745974/t2_bacteriophage_color_enhanced_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4244-74EC-44F2-85B0-C591C7FA6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rism.gatech.edu/~gh19/b1510/viru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ncbi.nlm.nih.gov/pmc/articles/PMC3312400/figure/A007161F2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0C90-EA62-454E-80F8-8F8AA6C77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A9F-1DB2-4548-BF81-E7334A76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4E5-BEAF-4C52-9554-709D112D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25E-7E7A-4934-98DC-1691DE11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858-34A9-4532-9C6C-A8DDA13D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A37-B571-4357-8A9C-43778299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56A-AC4B-4668-B553-1BE60658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AE4-23A1-470F-9C08-31CB90EB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14D-0C2E-4BFC-ACFF-8B63F4FF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D90-C76E-4722-9093-95D75D07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FEB-E84B-461E-89EC-F30ED1AD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489-6D62-4078-B2BE-5068BE37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430-9793-4B22-8703-DEB82563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5E7E-FCB8-48F6-9149-ED4D486A3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4sYSyuuLk5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es (2.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640px-Viral_infections_and_involved_species"/>
          <p:cNvPicPr/>
          <p:nvPr/>
        </p:nvPicPr>
        <p:blipFill>
          <a:blip r:embed="rId1"/>
          <a:stretch/>
        </p:blipFill>
        <p:spPr>
          <a:xfrm>
            <a:off x="1303200" y="304920"/>
            <a:ext cx="6535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c vs. Pande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vs. widespread (usually global) geographic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seen this fil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4sYSyuuLk5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ened virus or parts of virus trigger bod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ed against future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harma-obesity-vaccination-150x150"/>
          <p:cNvPicPr/>
          <p:nvPr/>
        </p:nvPicPr>
        <p:blipFill>
          <a:blip r:embed="rId1"/>
          <a:stretch/>
        </p:blipFill>
        <p:spPr>
          <a:xfrm>
            <a:off x="4343400" y="17524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d479spox01w001"/>
          <p:cNvPicPr/>
          <p:nvPr/>
        </p:nvPicPr>
        <p:blipFill>
          <a:blip r:embed="rId1"/>
          <a:stretch/>
        </p:blipFill>
        <p:spPr>
          <a:xfrm>
            <a:off x="1344600" y="1981080"/>
            <a:ext cx="6453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nization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imm_sch"/>
          <p:cNvPicPr/>
          <p:nvPr/>
        </p:nvPicPr>
        <p:blipFill>
          <a:blip r:embed="rId1"/>
          <a:stretch/>
        </p:blipFill>
        <p:spPr>
          <a:xfrm>
            <a:off x="1065240" y="1600200"/>
            <a:ext cx="7089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4" descr="Naomi Tyson Immunization Record.jpeg"/>
          <p:cNvPicPr/>
          <p:nvPr/>
        </p:nvPicPr>
        <p:blipFill>
          <a:blip r:embed="rId1"/>
          <a:srcRect l="0" t="-13664" r="0" b="-13664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- or Anti-Vacc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reasons for being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vacci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viruses be us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how it works-gene therapy"/>
          <p:cNvPicPr/>
          <p:nvPr/>
        </p:nvPicPr>
        <p:blipFill>
          <a:blip r:embed="rId1"/>
          <a:stretch/>
        </p:blipFill>
        <p:spPr>
          <a:xfrm>
            <a:off x="1790640" y="1981080"/>
            <a:ext cx="5560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disease-causing nonliving partic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Living Org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(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viroid_thumb[1]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171461"/>
          <p:cNvPicPr/>
          <p:nvPr/>
        </p:nvPicPr>
        <p:blipFill>
          <a:blip r:embed="rId1"/>
          <a:stretch/>
        </p:blipFill>
        <p:spPr>
          <a:xfrm>
            <a:off x="1571760" y="1600200"/>
            <a:ext cx="6000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Living Org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(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2" descr="image002.gif"/>
          <p:cNvPicPr/>
          <p:nvPr/>
        </p:nvPicPr>
        <p:blipFill>
          <a:blip r:embed="rId1"/>
          <a:srcRect l="-15724" t="0" r="-15724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lassificationtotal"/>
          <p:cNvPicPr/>
          <p:nvPr/>
        </p:nvPicPr>
        <p:blipFill>
          <a:blip r:embed="rId1"/>
          <a:srcRect l="13281" t="0" r="13281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048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s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material (DNA or 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iruses are also surrounded by an enve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antibac_pix_virus_types"/>
          <p:cNvPicPr/>
          <p:nvPr/>
        </p:nvPicPr>
        <p:blipFill>
          <a:blip r:embed="rId1"/>
          <a:stretch/>
        </p:blipFill>
        <p:spPr>
          <a:xfrm>
            <a:off x="3809880" y="2284560"/>
            <a:ext cx="495324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t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re very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an infect many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cteriophag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fect bacteria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t2_bacteriophage_color_enhanced_transmission_electron_micrograph_tem_of_t2_bacteriophages_invad_BA2174"/>
          <p:cNvPicPr/>
          <p:nvPr/>
        </p:nvPicPr>
        <p:blipFill>
          <a:blip r:embed="rId1"/>
          <a:stretch/>
        </p:blipFill>
        <p:spPr>
          <a:xfrm>
            <a:off x="4267080" y="2327400"/>
            <a:ext cx="441972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tic cycle (cau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sogenic cyc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ysogen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dormanc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8lytic"/>
          <p:cNvPicPr/>
          <p:nvPr/>
        </p:nvPicPr>
        <p:blipFill>
          <a:blip r:embed="rId1"/>
          <a:stretch/>
        </p:blipFill>
        <p:spPr>
          <a:xfrm>
            <a:off x="2152800" y="3124080"/>
            <a:ext cx="491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viral Treatments (H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6" descr="cshperspectmed-HIV-007161_F2.jpg"/>
          <p:cNvPicPr/>
          <p:nvPr/>
        </p:nvPicPr>
        <p:blipFill>
          <a:blip r:embed="rId1"/>
          <a:srcRect l="-7194" t="0" r="-7194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5:45:36Z</dcterms:created>
  <dc:creator>rubina khan</dc:creator>
  <dc:description/>
  <dc:language>en-US</dc:language>
  <cp:lastModifiedBy>rubina khan</cp:lastModifiedBy>
  <dcterms:modified xsi:type="dcterms:W3CDTF">2017-03-22T13:30:26Z</dcterms:modified>
  <cp:revision>85</cp:revision>
  <dc:subject/>
  <dc:title>Viruses</dc:title>
</cp:coreProperties>
</file>